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D49E-0302-4FAA-A98D-716828D2C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536-6AD8-462D-A705-4A3E8F084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DFD7-9FC1-46C9-BA1A-A637DCAA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1B6-AE73-474A-9265-D95816D3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49C-7E8A-4D1E-9C53-2987C6B0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D2C-A025-4F22-B377-C1AE5CC5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DB3-2299-4655-BC3A-80E61333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3E3-1FBF-4AD2-B88B-5C476F23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F83-7E57-484E-9E18-2370347F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6B7-739E-478C-A632-06086AD3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BA6-A59E-490D-A0DC-5804C11E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D37-03A8-416A-B6AC-8D731AAB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F79-F614-4705-872A-C5BC538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32B-6D98-4696-9738-FBCAFA1D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2DE-2A8B-45F2-9B75-74F1B267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CD16-7E36-4B67-8358-2FFC2B712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mr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ias  ¿Dónde está us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. Mi llamas Semra. 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ives Queens. Yo tengo quince años. Yo soy amable y energica.  Yo tengo dos herman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565520"/>
            <a:ext cx="65736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819520" y="38098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area ¿y tú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1240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                                                                           Ali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¿Qué haces?                      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819520" y="2438280"/>
            <a:ext cx="43434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 Estoy en la escuela.  No puedo hablo.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956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ie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Tú quieres comer helado más tarde?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819520" y="51814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egu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¿qué tiempo?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819520" y="5943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4:00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iós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.                                      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mr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 Dónde está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7528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. Mi llamas Semra. 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ives Queens. Yo tengo quince años. Yo soy amable y energica.  Yo tengo dos herman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565520"/>
            <a:ext cx="657360" cy="95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819520" y="38098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area ¿y tú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1240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                                                                           Ali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¿Qué haces?                      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819520" y="2438280"/>
            <a:ext cx="43434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.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819520" y="44956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ie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Tú quieres comer helado más tarde?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819520" y="51814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egu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¿qué tiempo?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819520" y="5943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4:00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iós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.                                      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43:20Z</dcterms:created>
  <dc:creator>FriscoISD</dc:creator>
  <dc:description/>
  <dc:language>en-US</dc:language>
  <cp:lastModifiedBy>NYCDOE</cp:lastModifiedBy>
  <dcterms:modified xsi:type="dcterms:W3CDTF">2013-01-02T15:05:58Z</dcterms:modified>
  <cp:revision>108</cp:revision>
  <dc:subject/>
  <dc:title>Profile</dc:title>
</cp:coreProperties>
</file>